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769-73E1-46BC-A58C-C790B57A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EB6-D256-4C9D-9A49-865B859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3B6-BC50-4942-95AA-5590E3F0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1F6-25B0-4A23-AC41-C2E1E97D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EFD-0872-4ED2-BD44-48D69D85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546-BEF4-457B-A3F4-A7291F2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72D-E5C7-4F9F-8022-8A34E0F1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026-7FEE-4C2F-A54D-ABFABB7B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AE4-1E50-4DF5-A089-8E417B9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762-772E-4440-A4F9-3AB4E73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623-43EF-44BA-9948-0DBD52C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44D-A48E-47C4-A8FC-1F4DBA1F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68FD-B4C0-4D85-BC2B-5C7758D3A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ufobike/2675730629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flickr.com/photos/dripper/2205848549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YOUR WASTED  WATER GOES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Jennifer Daoud and Jennapher khouz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3333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YCLE OF A WATER DROP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6" name=""/>
          <p:cNvGrpSpPr/>
          <p:nvPr/>
        </p:nvGrpSpPr>
        <p:grpSpPr>
          <a:xfrm>
            <a:off x="5244840" y="2104560"/>
            <a:ext cx="964080" cy="1091160"/>
            <a:chOff x="5244840" y="2104560"/>
            <a:chExt cx="964080" cy="1091160"/>
          </a:xfrm>
        </p:grpSpPr>
        <p:sp>
          <p:nvSpPr>
            <p:cNvPr id="47" name="_s3150"/>
            <p:cNvSpPr/>
            <p:nvPr/>
          </p:nvSpPr>
          <p:spPr>
            <a:xfrm>
              <a:off x="5244840" y="2104560"/>
              <a:ext cx="964080" cy="10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170440" y="1912320"/>
            <a:ext cx="4441680" cy="4316400"/>
            <a:chOff x="2170440" y="1912320"/>
            <a:chExt cx="4441680" cy="4316400"/>
          </a:xfrm>
        </p:grpSpPr>
        <p:sp>
          <p:nvSpPr>
            <p:cNvPr id="49" name="_s3169"/>
            <p:cNvSpPr/>
            <p:nvPr/>
          </p:nvSpPr>
          <p:spPr>
            <a:xfrm>
              <a:off x="3119760" y="1912320"/>
              <a:ext cx="2546640" cy="3071880"/>
            </a:xfrm>
            <a:custGeom>
              <a:avLst/>
              <a:gdLst>
                <a:gd name="textAreaLeft" fmla="*/ 0 w 2546640"/>
                <a:gd name="textAreaRight" fmla="*/ 2547000 w 2546640"/>
                <a:gd name="textAreaTop" fmla="*/ 0 h 3071880"/>
                <a:gd name="textAreaBottom" fmla="*/ 3072240 h 30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170"/>
            <p:cNvSpPr/>
            <p:nvPr/>
          </p:nvSpPr>
          <p:spPr>
            <a:xfrm rot="7200000">
              <a:off x="3205440" y="2905560"/>
              <a:ext cx="3071880" cy="2546640"/>
            </a:xfrm>
            <a:custGeom>
              <a:avLst/>
              <a:gdLst>
                <a:gd name="textAreaLeft" fmla="*/ 0 w 3071880"/>
                <a:gd name="textAreaRight" fmla="*/ 3072240 w 3071880"/>
                <a:gd name="textAreaTop" fmla="*/ 0 h 2546640"/>
                <a:gd name="textAreaBottom" fmla="*/ 2547000 h 254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172"/>
            <p:cNvSpPr/>
            <p:nvPr/>
          </p:nvSpPr>
          <p:spPr>
            <a:xfrm rot="14400000">
              <a:off x="2504880" y="2901240"/>
              <a:ext cx="3071880" cy="2546640"/>
            </a:xfrm>
            <a:custGeom>
              <a:avLst/>
              <a:gdLst>
                <a:gd name="textAreaLeft" fmla="*/ 0 w 3071880"/>
                <a:gd name="textAreaRight" fmla="*/ 3072240 w 3071880"/>
                <a:gd name="textAreaTop" fmla="*/ 0 h 2546640"/>
                <a:gd name="textAreaBottom" fmla="*/ 2547000 h 254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67"/>
            <p:cNvSpPr/>
            <p:nvPr/>
          </p:nvSpPr>
          <p:spPr>
            <a:xfrm>
              <a:off x="5088960" y="2474280"/>
              <a:ext cx="102024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68"/>
            <p:cNvSpPr/>
            <p:nvPr/>
          </p:nvSpPr>
          <p:spPr>
            <a:xfrm>
              <a:off x="3885120" y="4998240"/>
              <a:ext cx="102096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1"/>
            <p:cNvSpPr/>
            <p:nvPr/>
          </p:nvSpPr>
          <p:spPr>
            <a:xfrm>
              <a:off x="2673720" y="2480760"/>
              <a:ext cx="102024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8800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16280"/>
            <a:ext cx="45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first or maybe the hundred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ginning is out the tap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there it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Bike Eating Storm Drain Replaced on 99W and SW Hall, Tigard by KTe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2708280"/>
            <a:ext cx="91764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ycle Track at Holderness Drain by music0m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5157720"/>
            <a:ext cx="1008360" cy="1160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292428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goe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drainage  system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es down to the d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2:48:15Z</dcterms:created>
  <dc:creator>jennapher.khouzame</dc:creator>
  <dc:description/>
  <dc:language>en-US</dc:language>
  <cp:lastModifiedBy>jennapher.khouzame</cp:lastModifiedBy>
  <dcterms:modified xsi:type="dcterms:W3CDTF">2009-08-04T02:24:34Z</dcterms:modified>
  <cp:revision>4</cp:revision>
  <dc:subject/>
  <dc:title>WHERE YOUR WASTED  WATER GOES…….</dc:title>
</cp:coreProperties>
</file>